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CA7-AA62-4FDE-8FEF-746BBAFE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817-657E-40AA-83F8-73368AF8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C2F-A7F6-4A8A-BB5D-FC72A79C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309-D6FF-47A0-B90F-A9B91095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5D2-FDE2-4151-98F4-90A86D7F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0AF-673F-4949-BA9D-2E3219BE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AD9-46BE-4B21-B329-300AD9B9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33A-0192-41A1-9F9B-A014623A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C27-71BE-496D-A0DD-4517DF77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F03-C800-4E5B-9B83-708E3C0B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9C3-746A-496B-B563-72E2A7C8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3B2-EE7A-4AD2-9EE7-3897FED3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3640" indent="-2872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528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728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Luxi San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xi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Luxi San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xi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Luxi San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96ABB-D466-4C4E-83F2-1745E7F589A6}" type="slidenum">
              <a:rPr b="0" lang="en-GB" sz="1400" spc="-1" strike="noStrike">
                <a:solidFill>
                  <a:srgbClr val="000000"/>
                </a:solidFill>
                <a:latin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228240"/>
            <a:ext cx="907236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xi Sans"/>
              </a:rPr>
              <a:t>Status of EMC-HRD collaborative effor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uxi Sans"/>
              </a:rPr>
              <a:t>April 15, 2010</a:t>
            </a:r>
            <a:endParaRPr b="0" lang="en-US" sz="36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90760"/>
            <a:ext cx="9072720" cy="59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xi Sans"/>
              </a:rPr>
              <a:t>EMC and HRD have set-up an aggressive work plan to develop the following: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29080" indent="-27576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xi Sans"/>
              </a:rPr>
              <a:t>Start with HWRF V3.2 common repository version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29080" indent="-27576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xi Sans"/>
              </a:rPr>
              <a:t>Include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Luxi San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Luxi Sans"/>
              </a:rPr>
              <a:t> nest and related components configured to work at 27:9:3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29080" indent="-27576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xi Sans"/>
              </a:rPr>
              <a:t>Include capability to run idealized experiments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29080" indent="-27576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xi Sans"/>
              </a:rPr>
              <a:t>Benchmark V3.2 with operational HWRF configuration (27:9)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29080" indent="-27576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xi Sans"/>
              </a:rPr>
              <a:t>Work on coupling and initialization for third nest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29080" indent="-27576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xi Sans"/>
              </a:rPr>
              <a:t>Include and integrate HPLOT and Diapost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lvl="1" marL="829080" indent="-27576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xi Sans"/>
              </a:rPr>
              <a:t>Plan for real-time demo initially with 9:3 followed by 27:9:3 as it becomes available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  <a:p>
            <a:pPr marL="414360" indent="-3106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xi Sans"/>
              </a:rPr>
              <a:t>This will enable EMC and HRD have one unified HWRF system to work with. </a:t>
            </a:r>
            <a:endParaRPr b="0" lang="en-US" sz="2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pal</cp:lastModifiedBy>
  <dcterms:modified xsi:type="dcterms:W3CDTF">2010-04-15T14:49:11Z</dcterms:modified>
  <cp:revision>1</cp:revision>
  <dc:subject/>
  <dc:title>Status of EMC-HRD collaborative efforts April 15, 2010</dc:title>
</cp:coreProperties>
</file>